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10234613" cy="7102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ADB-1CD8-4FE3-82F4-3291F431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156-7FE8-41D6-BEE2-EE18DE48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8AB-016B-45DC-8FD2-A2571492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F87-4AF3-4F23-825F-F27A140C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8B15-3394-44C4-A2AC-682784A7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C45F-84E3-470A-9668-0C085A8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CBC2-4A08-4042-A997-F726C386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76CB-635E-4996-A946-7FEA10E5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8007-7026-449B-B5BC-88C31981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1B24-841D-4301-B96E-888433CC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4613-615D-44CD-B60B-F238C0F5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B7E-AF6A-47BE-AE41-F5CA0227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6B15-E6C1-43AE-876A-FE854B43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F64A-4EE8-4ADA-8252-19AA7F4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D652-FC69-4634-8A22-9C641175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7554-FF44-497A-BB24-85D0EED8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58F7-E156-42D5-B127-6C89845F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5D1-F9F2-4557-B738-54B1066B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6E6-81B6-4A10-9AFA-C901E0CF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5C9-9E57-4322-A695-8B3B2628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42E-BE71-4E3E-9C1E-EB0EBA7F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622-3AD2-4737-80BE-8A6EEF61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81F-5F1E-4A51-991C-026F61E2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D72-FA1E-4DCF-A36B-1A968C68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21EE-8ADD-4508-93CB-F98E3E24E2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D89E-3EC4-4022-B020-12373138F2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"/>
          <p:cNvSpPr/>
          <p:nvPr/>
        </p:nvSpPr>
        <p:spPr>
          <a:xfrm>
            <a:off x="3849480" y="1647720"/>
            <a:ext cx="47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关于课程网考的常见问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2795760" y="3889440"/>
            <a:ext cx="703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中国石油大学（北京）网络与继续教育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3"/>
          <p:cNvSpPr/>
          <p:nvPr/>
        </p:nvSpPr>
        <p:spPr>
          <a:xfrm>
            <a:off x="581040" y="684360"/>
            <a:ext cx="5891040" cy="45720"/>
          </a:xfrm>
          <a:prstGeom prst="rect">
            <a:avLst/>
          </a:prstGeom>
          <a:solidFill>
            <a:srgbClr val="767171"/>
          </a:solidFill>
          <a:ln w="0">
            <a:solidFill>
              <a:srgbClr val="4171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2"/>
          <p:cNvSpPr/>
          <p:nvPr/>
        </p:nvSpPr>
        <p:spPr>
          <a:xfrm>
            <a:off x="1263600" y="871560"/>
            <a:ext cx="96998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Q:</a:t>
            </a:r>
            <a:r>
              <a:rPr b="1" lang="zh-CN" sz="1800" spc="-1" strike="noStrike">
                <a:solidFill>
                  <a:srgbClr val="c00000"/>
                </a:solidFill>
                <a:latin typeface="Calibri"/>
              </a:rPr>
              <a:t>学生在提交答卷后，如何判断该次考试是否取得了有效成绩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: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在 “确定”交卷后，系统可能会出现两种情况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系统直接显示客观题分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c0000"/>
                </a:solidFill>
                <a:latin typeface="Calibri"/>
              </a:rPr>
              <a:t>       </a:t>
            </a:r>
            <a:r>
              <a:rPr b="1" lang="zh-CN" sz="1800" spc="-1" strike="noStrike">
                <a:solidFill>
                  <a:srgbClr val="bc0000"/>
                </a:solidFill>
                <a:latin typeface="Calibri"/>
              </a:rPr>
              <a:t>注意：系统只显示客观题分数（包括：选择、判断），如果提交试卷后显示为</a:t>
            </a:r>
            <a:r>
              <a:rPr b="1" lang="en-US" sz="1800" spc="-1" strike="noStrike">
                <a:solidFill>
                  <a:srgbClr val="bc0000"/>
                </a:solidFill>
                <a:latin typeface="Calibri"/>
              </a:rPr>
              <a:t>0</a:t>
            </a:r>
            <a:r>
              <a:rPr b="1" lang="zh-CN" sz="1800" spc="-1" strike="noStrike">
                <a:solidFill>
                  <a:srgbClr val="bc0000"/>
                </a:solidFill>
                <a:latin typeface="Calibri"/>
              </a:rPr>
              <a:t>分，请和学生确认试卷是否都是主观题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系统不显示成绩，提示“成绩待审核”。如果出现这种情况，学生需要等待后续的进一步审核和判定，审核会延迟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天，请学生耐心等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如果审核通过，系统将显示客观题分数；如果审核不通过，本次考试没有成绩。学生可以在考试端查看成绩状态，学习中心老师可以在云平台中查看学生的考试记录及考试成绩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954000" y="-58680"/>
            <a:ext cx="56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1238400" y="4606920"/>
            <a:ext cx="91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Q:  </a:t>
            </a:r>
            <a:r>
              <a:rPr b="1" lang="zh-CN" sz="1800" spc="-1" strike="noStrike">
                <a:solidFill>
                  <a:srgbClr val="c00000"/>
                </a:solidFill>
                <a:latin typeface="Calibri"/>
              </a:rPr>
              <a:t>当季考试，学生每门课程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zh-CN" sz="1800" spc="-1" strike="noStrike">
                <a:solidFill>
                  <a:srgbClr val="c00000"/>
                </a:solidFill>
                <a:latin typeface="Calibri"/>
              </a:rPr>
              <a:t>次考试机会都用完，但是没有取得有效成绩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: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学生只能在下次参加考试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4723200" y="2514600"/>
            <a:ext cx="240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5377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135377"/>
                </a:solidFill>
                <a:latin typeface="宋体"/>
              </a:rPr>
              <a:t>谢  谢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3"/>
          <p:cNvSpPr/>
          <p:nvPr/>
        </p:nvSpPr>
        <p:spPr>
          <a:xfrm>
            <a:off x="581040" y="684360"/>
            <a:ext cx="5891040" cy="45720"/>
          </a:xfrm>
          <a:prstGeom prst="rect">
            <a:avLst/>
          </a:prstGeom>
          <a:solidFill>
            <a:srgbClr val="767171"/>
          </a:solidFill>
          <a:ln w="0">
            <a:solidFill>
              <a:srgbClr val="4171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954000" y="-58680"/>
            <a:ext cx="56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1152360" y="1461960"/>
            <a:ext cx="873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00000"/>
                </a:solidFill>
                <a:latin typeface="Calibri"/>
              </a:rPr>
              <a:t>Q:  </a:t>
            </a:r>
            <a:r>
              <a:rPr b="1" sz="2000" spc="-1" strike="noStrike">
                <a:solidFill>
                  <a:srgbClr val="c00000"/>
                </a:solidFill>
                <a:latin typeface="Calibri"/>
              </a:rPr>
              <a:t>考试前，学生如何查看考试系统操作说明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alibri"/>
              </a:rPr>
              <a:t>A:  </a:t>
            </a:r>
            <a:r>
              <a:rPr b="1" sz="2000" spc="-1" strike="noStrike">
                <a:solidFill>
                  <a:srgbClr val="000000"/>
                </a:solidFill>
                <a:latin typeface="Calibri"/>
              </a:rPr>
              <a:t>学生在学院首页“通知公告”专栏查看考试通知（见附件）链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sz="2000" spc="-1" strike="noStrike">
                <a:solidFill>
                  <a:srgbClr val="000000"/>
                </a:solidFill>
                <a:latin typeface="Calibri"/>
              </a:rPr>
              <a:t>学生工作室查看考试通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1185840" y="3357720"/>
            <a:ext cx="10348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1" sz="2000" spc="-1" strike="noStrike">
                <a:solidFill>
                  <a:srgbClr val="000000"/>
                </a:solidFill>
                <a:latin typeface="Calibri"/>
              </a:rPr>
              <a:t>每学期接到考试通知后，学生要在学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学院学历继续教育官网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ttp://www.cupde.cn/cms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考试专栏（或者考试专区）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课程考试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下载安装课程考试系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sz="2000" spc="-1" strike="noStrike">
                <a:solidFill>
                  <a:srgbClr val="000000"/>
                </a:solidFill>
                <a:latin typeface="Calibri"/>
              </a:rPr>
              <a:t>注意：下载客户端后一定要解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00000"/>
                </a:solidFill>
                <a:latin typeface="Calibri"/>
              </a:rPr>
              <a:t>Q:  </a:t>
            </a:r>
            <a:r>
              <a:rPr b="1" sz="2000" spc="-1" strike="noStrike">
                <a:solidFill>
                  <a:srgbClr val="c00000"/>
                </a:solidFill>
                <a:latin typeface="Calibri"/>
              </a:rPr>
              <a:t>网考系统用户名及密码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sz="2000" spc="-1" strike="noStrike">
                <a:solidFill>
                  <a:srgbClr val="000000"/>
                </a:solidFill>
                <a:latin typeface="Calibri"/>
              </a:rPr>
              <a:t>：用户名：学生的院校学号；密码：身份证后六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sz="2000" spc="-1" strike="noStrike">
                <a:solidFill>
                  <a:srgbClr val="000000"/>
                </a:solidFill>
                <a:latin typeface="Calibri"/>
              </a:rPr>
              <a:t>注意：网考系统与学生工作室不是同一密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185840" y="3019320"/>
            <a:ext cx="69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Q:   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学生如何下载课程考试系统</a:t>
            </a:r>
            <a:r>
              <a:rPr b="0" lang="zh-CN" sz="2000" spc="-1" strike="noStrike">
                <a:solidFill>
                  <a:srgbClr val="c00000"/>
                </a:solidFill>
                <a:latin typeface="Calibri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3"/>
          <p:cNvSpPr/>
          <p:nvPr/>
        </p:nvSpPr>
        <p:spPr>
          <a:xfrm>
            <a:off x="581040" y="684360"/>
            <a:ext cx="5891040" cy="45720"/>
          </a:xfrm>
          <a:prstGeom prst="rect">
            <a:avLst/>
          </a:prstGeom>
          <a:solidFill>
            <a:srgbClr val="767171"/>
          </a:solidFill>
          <a:ln w="0">
            <a:solidFill>
              <a:srgbClr val="4171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954000" y="-58680"/>
            <a:ext cx="56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1231920" y="1366920"/>
            <a:ext cx="103489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Q:  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学生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登录网考系统显示账号或密码错误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: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首先到学生工作室确定学生是否有网考课程，不及格课程是否申请了补考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如有网考课程，学习中心老师登录云平台管理员账号，输入学号重置学生密码，重置后的密码为身份证后六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具体操作请查看《云平台操作说明》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（在学习中心管理</a:t>
            </a:r>
            <a:r>
              <a:rPr b="1" lang="en-US" sz="2000" spc="-1" strike="noStrike">
                <a:solidFill>
                  <a:srgbClr val="bc0000"/>
                </a:solidFill>
                <a:latin typeface="Calibri"/>
              </a:rPr>
              <a:t>QQ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群中发布）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注意：网考平台和学生工作室（学生平台）不是同一个平台，密码也没有任何关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3"/>
          <p:cNvSpPr/>
          <p:nvPr/>
        </p:nvSpPr>
        <p:spPr>
          <a:xfrm>
            <a:off x="581040" y="684360"/>
            <a:ext cx="5891040" cy="45720"/>
          </a:xfrm>
          <a:prstGeom prst="rect">
            <a:avLst/>
          </a:prstGeom>
          <a:solidFill>
            <a:srgbClr val="767171"/>
          </a:solidFill>
          <a:ln w="0">
            <a:solidFill>
              <a:srgbClr val="4171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954000" y="-58680"/>
            <a:ext cx="56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1138320" y="3176640"/>
            <a:ext cx="10348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00000"/>
                </a:solidFill>
                <a:latin typeface="Calibri"/>
              </a:rPr>
              <a:t>Q: </a:t>
            </a:r>
            <a:r>
              <a:rPr b="1" sz="2000" spc="-1" strike="noStrike">
                <a:solidFill>
                  <a:srgbClr val="c00000"/>
                </a:solidFill>
                <a:latin typeface="Calibri"/>
              </a:rPr>
              <a:t>考试系统对电脑及考试环境有何要求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: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电脑：能联网的电脑（不支持苹果系统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摄像头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万像素及以上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（电脑自带摄像头，或者置于电脑正前方的摄像头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环境：光线充足，避免逆光操作（光线不足时可在电脑前方摆放台灯或打开手机手电筒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057320" y="137196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Q:   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管理员通过云平台账号搜不到学生信息，提示错误如何处理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换成谷歌浏览器，然后进入云平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2400480" y="2581200"/>
            <a:ext cx="44575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3"/>
          <p:cNvSpPr/>
          <p:nvPr/>
        </p:nvSpPr>
        <p:spPr>
          <a:xfrm>
            <a:off x="581040" y="684360"/>
            <a:ext cx="5891040" cy="45720"/>
          </a:xfrm>
          <a:prstGeom prst="rect">
            <a:avLst/>
          </a:prstGeom>
          <a:solidFill>
            <a:srgbClr val="767171"/>
          </a:solidFill>
          <a:ln w="0">
            <a:solidFill>
              <a:srgbClr val="4171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1185840" y="1036800"/>
            <a:ext cx="101203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00"/>
                </a:solidFill>
                <a:latin typeface="Calibri"/>
              </a:rPr>
              <a:t>Q:  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考试过程中如何按要求完成相应指定动作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: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注意：人脸检测后的数字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为检测时间，请在规定的时间内完成指定动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）识别过程中有提示音，打开电脑扬声器，如果电脑没有外放功能，请带耳机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请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学生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注意听提示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）识别范围：头部以上、颈部以下的范围必须在识别的范围内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重点：整个头部和颈部，不能高也不能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）动作识别环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点头：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点头时，向上一下，向下一下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；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动作不要过快，幅度不要过大，不要做重复动作。系统显示成功进入到下一动作时（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注意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提示音），头要摆正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按照提示做下一个动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张嘴：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张开闭上为一个完整动作（不要重复张嘴闭嘴动作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954000" y="-58680"/>
            <a:ext cx="56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3"/>
          <p:cNvSpPr/>
          <p:nvPr/>
        </p:nvSpPr>
        <p:spPr>
          <a:xfrm>
            <a:off x="581040" y="684360"/>
            <a:ext cx="5891040" cy="45720"/>
          </a:xfrm>
          <a:prstGeom prst="rect">
            <a:avLst/>
          </a:prstGeom>
          <a:solidFill>
            <a:srgbClr val="767171"/>
          </a:solidFill>
          <a:ln w="0">
            <a:solidFill>
              <a:srgbClr val="4171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1509840" y="2608200"/>
            <a:ext cx="94629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）指定动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识别失败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情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本人参加考试：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因动作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不符合检测要求（动作不对、超时等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失败的，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系统自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退出考试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；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再次登陆进行断点续考（不减少考试次数），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分钟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之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内会再次出现指定动作。如若第二次识别失败，无论什么原因，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只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自动退出考试，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就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减少一次考试机会，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并且没有考试成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非本人参加考试：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指定动作失败直接退出考试，减少一次考试机会，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没有考试成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"/>
          <p:cNvSpPr/>
          <p:nvPr/>
        </p:nvSpPr>
        <p:spPr>
          <a:xfrm>
            <a:off x="1400040" y="1128600"/>
            <a:ext cx="940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）语音提示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：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请让我看您的正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照镜子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bc0000"/>
                </a:solidFill>
                <a:latin typeface="Calibri"/>
              </a:rPr>
              <a:t>因为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系统</a:t>
            </a:r>
            <a:r>
              <a:rPr b="1" lang="en-US" sz="2000" spc="-1" strike="noStrike">
                <a:solidFill>
                  <a:srgbClr val="bc0000"/>
                </a:solidFill>
                <a:latin typeface="Calibri"/>
              </a:rPr>
              <a:t>检测不到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考生的</a:t>
            </a:r>
            <a:r>
              <a:rPr b="1" lang="en-US" sz="2000" spc="-1" strike="noStrike">
                <a:solidFill>
                  <a:srgbClr val="bc0000"/>
                </a:solidFill>
                <a:latin typeface="Calibri"/>
              </a:rPr>
              <a:t>正脸，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所以一定要</a:t>
            </a:r>
            <a:r>
              <a:rPr b="1" lang="en-US" sz="2000" spc="-1" strike="noStrike">
                <a:solidFill>
                  <a:srgbClr val="bc0000"/>
                </a:solidFill>
                <a:latin typeface="Calibri"/>
              </a:rPr>
              <a:t>适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当</a:t>
            </a:r>
            <a:r>
              <a:rPr b="1" lang="en-US" sz="2000" spc="-1" strike="noStrike">
                <a:solidFill>
                  <a:srgbClr val="bc0000"/>
                </a:solidFill>
                <a:latin typeface="Calibri"/>
              </a:rPr>
              <a:t>调整灯光或者距离。如果没有出现语音提示就按照屏幕指示来做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954000" y="-68400"/>
            <a:ext cx="56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3"/>
          <p:cNvSpPr/>
          <p:nvPr/>
        </p:nvSpPr>
        <p:spPr>
          <a:xfrm>
            <a:off x="581040" y="684360"/>
            <a:ext cx="5891040" cy="45720"/>
          </a:xfrm>
          <a:prstGeom prst="rect">
            <a:avLst/>
          </a:prstGeom>
          <a:solidFill>
            <a:srgbClr val="767171"/>
          </a:solidFill>
          <a:ln w="0">
            <a:solidFill>
              <a:srgbClr val="4171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954000" y="-68400"/>
            <a:ext cx="56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419120" y="1115280"/>
            <a:ext cx="1019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A: 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学生在指定动作过程中，出现网络异常，做完指定动作卡住不能跳到答题界面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Q: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这是由于网络不稳定造成的。让学生换个网络环境好的地方考，否则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浪费考试机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7" descr=""/>
          <p:cNvPicPr/>
          <p:nvPr/>
        </p:nvPicPr>
        <p:blipFill>
          <a:blip r:embed="rId1"/>
          <a:stretch/>
        </p:blipFill>
        <p:spPr>
          <a:xfrm>
            <a:off x="2757600" y="3186000"/>
            <a:ext cx="46195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3"/>
          <p:cNvSpPr/>
          <p:nvPr/>
        </p:nvSpPr>
        <p:spPr>
          <a:xfrm>
            <a:off x="581040" y="684360"/>
            <a:ext cx="5891040" cy="45720"/>
          </a:xfrm>
          <a:prstGeom prst="rect">
            <a:avLst/>
          </a:prstGeom>
          <a:solidFill>
            <a:srgbClr val="767171"/>
          </a:solidFill>
          <a:ln w="0">
            <a:solidFill>
              <a:srgbClr val="4171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954000" y="-68400"/>
            <a:ext cx="56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209600" y="1197000"/>
            <a:ext cx="9010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Q:  </a:t>
            </a:r>
            <a:r>
              <a:rPr b="1" lang="zh-CN" sz="1800" spc="-1" strike="noStrike">
                <a:solidFill>
                  <a:srgbClr val="c00000"/>
                </a:solidFill>
                <a:latin typeface="Calibri"/>
              </a:rPr>
              <a:t>若考试过程中发生异常情况，包括答题界面无法操作、断网、断电、软硬件故障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: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若故障处理时间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时之内，恢复考试状态后，系统将自动进入未完成的考试界面，进行断点续考。断点续考不扣除考试次数，即剩余考试次数不变，故障处理时间不计算在当下科目的考试时间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若故障处理时间若超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时，则需要重新进入当下科目的考试，当下科目的剩余考试次数随之减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次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3"/>
          <p:cNvSpPr/>
          <p:nvPr/>
        </p:nvSpPr>
        <p:spPr>
          <a:xfrm>
            <a:off x="581040" y="684360"/>
            <a:ext cx="5891040" cy="45720"/>
          </a:xfrm>
          <a:prstGeom prst="rect">
            <a:avLst/>
          </a:prstGeom>
          <a:solidFill>
            <a:srgbClr val="767171"/>
          </a:solidFill>
          <a:ln w="0">
            <a:solidFill>
              <a:srgbClr val="41719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"/>
          <p:cNvSpPr/>
          <p:nvPr/>
        </p:nvSpPr>
        <p:spPr>
          <a:xfrm>
            <a:off x="1263600" y="938160"/>
            <a:ext cx="969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Q : 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如因照片清晰度不够、或照片不是学生本人等原因导致无法进入考试系统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在每季网考系统开通之后，考务管理部通知，要求学生在一周内进入考试系统认真核对照片，查看照片是否存在问题。由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学习中心（奥鹏、华图、弘成先提交到总部）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按照学院当季考试发布的《关于课程网考系统学生照片修改的通知》要求，提交相关申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照片要求：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蓝底</a:t>
            </a:r>
            <a:r>
              <a:rPr b="1" lang="en-US" sz="2000" spc="-1" strike="noStrike">
                <a:solidFill>
                  <a:srgbClr val="bc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寸标准证件照，像素大于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25kb</a:t>
            </a:r>
            <a:r>
              <a:rPr b="1" lang="zh-CN" sz="2000" spc="-1" strike="noStrike">
                <a:solidFill>
                  <a:srgbClr val="bc0000"/>
                </a:solidFill>
                <a:latin typeface="Calibri"/>
              </a:rPr>
              <a:t>，五官清晰，且五官和额头没有遮挡；以身份证命名，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位身份证号码（不能加空格等任何符号），身份证号码最后一位为“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X”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的一律大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身份证正反面照片：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正面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以“身份证号码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姓名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1”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命名，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反面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以“身份证号码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姓名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2”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命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经学院核准后，由学习中心管理员从教学管理平台同步照片到网考系统。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954000" y="-58680"/>
            <a:ext cx="56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见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08:48:48Z</dcterms:created>
  <dc:creator>Administrator</dc:creator>
  <dc:description/>
  <dc:language>en-US</dc:language>
  <cp:lastModifiedBy> </cp:lastModifiedBy>
  <cp:lastPrinted>2017-06-04T23:59:11Z</cp:lastPrinted>
  <dcterms:modified xsi:type="dcterms:W3CDTF">2022-05-16T08:17:47Z</dcterms:modified>
  <cp:revision>3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